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0284-B8EB-46E9-ABE3-F53544864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7D69-91F0-48CC-A757-B6769761556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60425-5D91-42FA-8823-86CDB917EAF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5B59-9400-4C8A-8496-24D1A43D704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D3B3-968F-44C1-8D5C-D499B49E6F7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AA29A-AE09-46A3-BE07-D4B910A05B8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ight</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151040" y="6323400"/>
            <a:ext cx="155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153200" y="6323400"/>
            <a:ext cx="154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13592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13808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10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1294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151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459160" y="966960"/>
            <a:ext cx="4225680" cy="49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12008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112880" y="6323400"/>
            <a:ext cx="1595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01Z</dcterms:modified>
  <cp:revision>42</cp:revision>
  <dc:subject/>
  <dc:title>lesson three</dc:title>
</cp:coreProperties>
</file>