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F47F1-7F41-497D-A863-CF1E3DF53C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68315-4AFB-4A04-8FC6-383893CB70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675C5-93D1-455A-890B-2FEDC73A5B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7E6B7-D0CB-451A-ADDE-26604829BA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5D139-8814-41FF-A92C-57C2C0121C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fourteen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umer privac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606840"/>
            <a:ext cx="642960" cy="6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otecting your privacy: your options as a consume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opting out” of direct marketing progra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Ask merchant to be removed from his/her mailing li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Contact the Direct Marketing Association (DMA) to have your name removed from the mailing lists of its member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Eurostile-Demi"/>
              </a:rPr>
              <a:t>Direct Marketing Associ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Mail Preference Servi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P.O. Box 90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Farmingdale, NY 11735-90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thedma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Contact the DMA to have your name removed from telephone lists of its members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Eurostile-Demi"/>
              </a:rPr>
              <a:t>Direct Marketing Associ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Telephone Preference Servi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P.O. Box 901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Farmingdale, NY 11735-901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thedma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your options as a consum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Answer only necessary information on product warranty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Never give out personal or financial information over the phone unless you know the company and know how the information will be us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Don’t give personal information at point-of-sale transacti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If a telemarketer calls and you don’t want future solicitations, cite the federal law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6975000" y="6323400"/>
            <a:ext cx="172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’s in a credit report?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identifying information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Name, Social Security number, address, and sometimes phone number, previous address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nd employe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credit history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revious and current types of credit, credit providers, payment habits, outstanding obligations and debts, and extent of credit grante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ublic record information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Usually limited to tax liens, judgments, and bankruptc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rior requester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Names of those who have requested information about this consumer in the recent pas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6970320" y="6323400"/>
            <a:ext cx="1726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4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viewing your credit repor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ir Credit Reporting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ipulates that an individual, upon request to the consumer-reporting agency, may have access to a copy of his or her credit repor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7008480" y="6323400"/>
            <a:ext cx="168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4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6019920" y="2365200"/>
            <a:ext cx="2743200" cy="6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ransUnion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nsumer Relation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ansunion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533520" y="2365200"/>
            <a:ext cx="2361960" cy="6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perian Consumer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sistance Center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erian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3429000" y="2365200"/>
            <a:ext cx="17812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quifax Credit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formation Service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quifax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457200" y="3733920"/>
            <a:ext cx="8001000" cy="9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itional questions about your credit report rights can be directed to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ederal Trade Commission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tccomplaintassistant.gov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457200" y="1984320"/>
            <a:ext cx="80010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o receive a copy of your credit report, contact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elecommunication devices and servic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lephone – Mobile phones and dev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axes – Internet – Radi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ller ID – Call waiting – Three-way call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a transfer – WiFi – Streaming – S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7012440" y="6323400"/>
            <a:ext cx="167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4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electronic monitoring in the workplac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types of electronic monitoring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Telephone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Voice mail and electronic mail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keystrokes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Locational detecto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Surveillance video camer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699156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4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ivacy and informat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Information privacy: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rivacy that involves the rights of individuals in relation to information about them that is circulating in societ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why privacy is an important issue in the Information 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systems record and store a lot of information about us and our consumer activit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ublic and private organizations can share our computer files. For example, the IRS can acces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 financial data about you from your bank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data can travel and change hands in just a few secon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Because of these factors, accurate data is paramou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why information privacy is a sensitive issu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Information is a very valuable resour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ccess to information in our society today offers many benefits to consumers, but also pose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 potential threat to our privac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6994080" y="6323400"/>
            <a:ext cx="1718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information generally available from public sources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emographic information (U.S. censu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elephone director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Birth, marriage, and divorce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Voter registration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ampaign contribu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er’s licenses/vehicle registr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Licenses and permits (hunting, fishing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Legal information (judgments, bankruptcies, real estate titles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99624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ivate databases available to only those with a legitimate purpos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Employment inform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edit repor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ax information (IRS/state tax board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imina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ocial service records (welfare, Medicaid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choo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Medica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7001640" y="6323400"/>
            <a:ext cx="1712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mending or correcting recor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rivacy Act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requires each federal agency that maintains records to permit individuals to request amendment of his or her recor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to amend or expunge a record you must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ntact the agency in ques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wait administrative review of reque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If request is denied, you can request a court review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Fair Credit Reporting Act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gives consumers the right to dispute inaccurate information and permits them to insert their own version of disputed information into a credit repor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6987600" y="6323400"/>
            <a:ext cx="1724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’s in a database profile?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atabase profiles are files of information about you that are stored in computer systems and may be used by a variety of organiza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Caslon-Regular"/>
              </a:rPr>
              <a:t>This information include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hone and fax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ocial Security 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edit card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er’s license 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Bank account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tudent loan hist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Medical hist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ing recor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Worker’s compensation and insurance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ax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olitical affili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pending patter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roduct preferen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Estimated incom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7008840" y="6323400"/>
            <a:ext cx="170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 the law say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Caslon-Regular"/>
              </a:rPr>
              <a:t>Get to know some key federal privacy protection law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0: Fair Credit Reporting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uarantees consumer rights in the collection and reporting of information for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redit, employment, insurance, and other consumer business transac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4: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ives American citizens the right to request, inspect, and challenge their own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federa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4: Family Educational Rights and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ives parents and students over 18 access to the student’s schoo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5: Equal Credit Opportunit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Outlaws discrimination in granting credit due to age, gender, marital status,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religion, ethnicity, national origin, or receipt of public assistan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6: Tax Reform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Limits disclosure of tax information and requires that taxpayers be notified wh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their tax records are summoned from record keeper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8: Rights to Financial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Sets conditions under which federal investigators can access an individual’s bank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ccount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701100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 the law say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8: Electronic Fund Transfer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Requires banks that provide EFT services to disclose the circumstances under which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ccount information can be disclosed to third part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0: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the press and others that disseminate information to the public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from unlawful government searches and seizure of their work product and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other material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4: Cable Communications Poli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rotects the privacy of cable television subscriber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6: Electronic Communications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rotects the privacy of electronic communications and transactional data such as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telephone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8: Computer Matching and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individual privacy in connection with government benefit programs in whic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n individual’s records at one government agency are compared against similar record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t other agenc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8: Video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Mandates a court order to gain access to videocassette renta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701100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 the law say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91: Telephone Consumer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consumers from unwanted telemarketing calls, and restricts the timing of calls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nd the use of auto-dialers in telemarket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96: The Health Insurance Portability and Accountability Act of 1996 (HIPAA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patients from the disclosure of sensitive, health-related information without their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knowledge or cons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98: Children’s Online Privacy Protection Act of 1998 (COPPA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children’s online privacy by regulating the collection of personal information from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children under 13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2000: U.S. Congress Electronic Signatures in Global National Commerce Act (“ESIGN”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Helps ensure the legality and validity of electronic contrac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2003: Fair and Accurate Credit Transactions Act (FACTA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Entitles consumers to one free credit report per year, enables them to opt out of credit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offers and features other provisions designed to help protect consumers from identity thef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701100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1-14T20:42:19Z</dcterms:modified>
  <cp:revision>53</cp:revision>
  <dc:subject/>
  <dc:title>lesson three</dc:title>
</cp:coreProperties>
</file>