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2F0C-4D5E-485C-B7E3-8C12DCDA1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9B00-96CA-4664-8AB5-C3A91F4F9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1227-F485-4F26-B06C-55E1677CA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7D6C-22E1-4CB2-AE9F-8AD30ED56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9788-EE6B-4F02-A727-F81099C5B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CBFA-4C4E-4621-949F-89BADDE57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i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00560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73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914520" y="6323400"/>
            <a:ext cx="179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97240" y="63234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00884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23:16Z</dcterms:modified>
  <cp:revision>33</cp:revision>
  <dc:subject/>
  <dc:title>lesson three</dc:title>
</cp:coreProperties>
</file>